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631D-6BD3-4833-B854-5EFF8B078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89D4-B13C-4A3E-9CCB-D6C94A139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E91-59E9-4EF2-AAF1-DA8AE66A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29F-46B3-49CE-9399-2E50999D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9B8-0DD9-4900-A800-5F382C80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050-0D25-4C4E-8086-16C469FB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E75-FEB0-4EC4-88A7-75CEDD4D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98D-2D4F-465C-AE5D-5FA1F972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687-F910-4F7C-BB6D-AB4CFDA7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C6D-E858-4A8F-A0D3-06C47D97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89A-F885-4B07-B446-648F25D4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5B3-3C73-4040-BBE9-6E1933D9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897-86B7-4292-B325-1CF33E2C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0C7-6320-49DB-8566-A7FAF6AE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5221-8261-4987-8550-DA030F8F8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3" descr=""/>
          <p:cNvPicPr/>
          <p:nvPr/>
        </p:nvPicPr>
        <p:blipFill>
          <a:blip r:embed="rId1"/>
          <a:stretch/>
        </p:blipFill>
        <p:spPr>
          <a:xfrm>
            <a:off x="1279440" y="-12600"/>
            <a:ext cx="7578720" cy="987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419720" y="1676520"/>
            <a:ext cx="44193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ian Dawson, Tamica Copeland, Rachael Fernandes, LaChanda Freeman, Kelly Czekan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KtC_Inspector_Gadget_Cartoon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3520" y="2438280"/>
            <a:ext cx="328752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142640" y="2057040"/>
            <a:ext cx="7467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st way to get to know your way around your own wikispace is to click, investigate, try out different features offered in the program. Good Lu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Title 3" descr=""/>
          <p:cNvPicPr/>
          <p:nvPr/>
        </p:nvPicPr>
        <p:blipFill>
          <a:blip r:embed="rId1"/>
          <a:stretch/>
        </p:blipFill>
        <p:spPr>
          <a:xfrm>
            <a:off x="1352520" y="255600"/>
            <a:ext cx="7353360" cy="118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appy_kids_powerpoint_template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743200" y="5334120"/>
            <a:ext cx="3429000" cy="1279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1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wiki_Cover.GIF"/>
          <p:cNvPicPr/>
          <p:nvPr/>
        </p:nvPicPr>
        <p:blipFill>
          <a:blip r:embed="rId1"/>
          <a:stretch/>
        </p:blipFill>
        <p:spPr>
          <a:xfrm>
            <a:off x="1974960" y="755640"/>
            <a:ext cx="527364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TDC_5.gif"/>
          <p:cNvPicPr/>
          <p:nvPr/>
        </p:nvPicPr>
        <p:blipFill>
          <a:blip r:embed="rId1"/>
          <a:stretch/>
        </p:blipFill>
        <p:spPr>
          <a:xfrm>
            <a:off x="1901880" y="755640"/>
            <a:ext cx="55166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1523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ikispaces.com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066680" y="2057400"/>
            <a:ext cx="754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7315200" cy="4429080"/>
          </a:xfrm>
          <a:prstGeom prst="rect">
            <a:avLst/>
          </a:prstGeom>
          <a:ln w="0">
            <a:noFill/>
          </a:ln>
        </p:spPr>
      </p:pic>
      <p:pic>
        <p:nvPicPr>
          <p:cNvPr id="55" name="Title 3" descr=""/>
          <p:cNvPicPr/>
          <p:nvPr/>
        </p:nvPicPr>
        <p:blipFill>
          <a:blip r:embed="rId3"/>
          <a:stretch/>
        </p:blipFill>
        <p:spPr>
          <a:xfrm>
            <a:off x="2498760" y="-12600"/>
            <a:ext cx="48355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3276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on “Wikis for Individuals and Group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reate a Username, Password and give your e-mail.  Push “Join Now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rcRect l="8595" t="52525" r="12821" b="16044"/>
          <a:stretch/>
        </p:blipFill>
        <p:spPr>
          <a:xfrm>
            <a:off x="3733920" y="1600200"/>
            <a:ext cx="5181480" cy="129528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7"/>
          <p:cNvCxnSpPr/>
          <p:nvPr/>
        </p:nvCxnSpPr>
        <p:spPr>
          <a:xfrm>
            <a:off x="6781680" y="1676520"/>
            <a:ext cx="457920" cy="381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59" name="Picture 11" descr="Join_now.png"/>
          <p:cNvPicPr/>
          <p:nvPr/>
        </p:nvPicPr>
        <p:blipFill>
          <a:blip r:embed="rId2"/>
          <a:srcRect l="0" t="6095" r="4479" b="0"/>
          <a:stretch/>
        </p:blipFill>
        <p:spPr>
          <a:xfrm>
            <a:off x="3809880" y="3962520"/>
            <a:ext cx="4876920" cy="234792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3"/>
          <a:stretch/>
        </p:blipFill>
        <p:spPr>
          <a:xfrm>
            <a:off x="2498760" y="-12600"/>
            <a:ext cx="48355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219320" y="129528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ow have an account.  Your first screen should be basic directions on the next steps to designing, managing and choosing security o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tle 3" descr=""/>
          <p:cNvPicPr/>
          <p:nvPr/>
        </p:nvPicPr>
        <p:blipFill>
          <a:blip r:embed="rId1"/>
          <a:stretch/>
        </p:blipFill>
        <p:spPr>
          <a:xfrm>
            <a:off x="2432160" y="-12600"/>
            <a:ext cx="495612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sunflowers.gif"/>
          <p:cNvPicPr/>
          <p:nvPr/>
        </p:nvPicPr>
        <p:blipFill>
          <a:blip r:embed="rId2"/>
          <a:stretch/>
        </p:blipFill>
        <p:spPr>
          <a:xfrm>
            <a:off x="30492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welcome_to_your_wiki.png"/>
          <p:cNvPicPr/>
          <p:nvPr/>
        </p:nvPicPr>
        <p:blipFill>
          <a:blip r:embed="rId1"/>
          <a:stretch/>
        </p:blipFill>
        <p:spPr>
          <a:xfrm>
            <a:off x="1066680" y="1295280"/>
            <a:ext cx="7809120" cy="518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Title 3" descr=""/>
          <p:cNvPicPr/>
          <p:nvPr/>
        </p:nvPicPr>
        <p:blipFill>
          <a:blip r:embed="rId2"/>
          <a:stretch/>
        </p:blipFill>
        <p:spPr>
          <a:xfrm>
            <a:off x="1060560" y="-12600"/>
            <a:ext cx="793728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Page.pn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24000" y="1752480"/>
            <a:ext cx="7234200" cy="4191120"/>
          </a:xfrm>
          <a:prstGeom prst="rect">
            <a:avLst/>
          </a:prstGeom>
          <a:ln w="0">
            <a:noFill/>
          </a:ln>
        </p:spPr>
      </p:pic>
      <p:sp>
        <p:nvSpPr>
          <p:cNvPr id="67" name="Line Callout 3 5"/>
          <p:cNvSpPr/>
          <p:nvPr/>
        </p:nvSpPr>
        <p:spPr>
          <a:xfrm>
            <a:off x="990720" y="5334120"/>
            <a:ext cx="2209680" cy="12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3827" y="-43479"/>
                </a:moveTo>
                <a:lnTo>
                  <a:pt x="-6589" y="-43479"/>
                </a:lnTo>
                <a:lnTo>
                  <a:pt x="-6414" y="11099"/>
                </a:lnTo>
                <a:lnTo>
                  <a:pt x="-41" y="11412"/>
                </a:lnTo>
              </a:path>
            </a:pathLst>
          </a:custGeom>
          <a:solidFill>
            <a:srgbClr val="ffff00">
              <a:alpha val="75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layout and security options by selecting “Manage Wiki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2"/>
          <a:stretch/>
        </p:blipFill>
        <p:spPr>
          <a:xfrm>
            <a:off x="1279440" y="158760"/>
            <a:ext cx="5645160" cy="135900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4"/>
          <p:cNvSpPr/>
          <p:nvPr/>
        </p:nvSpPr>
        <p:spPr>
          <a:xfrm>
            <a:off x="6324480" y="1066680"/>
            <a:ext cx="2133720" cy="990720"/>
          </a:xfrm>
          <a:prstGeom prst="wedgeRoundRectCallout">
            <a:avLst>
              <a:gd name="adj1" fmla="val 27782"/>
              <a:gd name="adj2" fmla="val 76768"/>
              <a:gd name="adj3" fmla="val 16667"/>
            </a:avLst>
          </a:prstGeom>
          <a:solidFill>
            <a:srgbClr val="ffff00">
              <a:alpha val="80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“Edit” to add content to this pa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9036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“Manage Wiki” gives you option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147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new members and remove old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147600">
              <a:lnSpc>
                <a:spcPct val="150000"/>
              </a:lnSpc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e when the last edit was made, and who mad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147600">
              <a:lnSpc>
                <a:spcPct val="150000"/>
              </a:lnSpc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ock, unlock, or delete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147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load and view a list of files in your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147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 who can view or edit your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147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vite friends, students, coworkers, or collaborators to join your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147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esign the wiki such as color, theme, logo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147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1279440" y="165240"/>
            <a:ext cx="69692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6668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ontent by clicking the “edit” tab on your wiki page.  You can add text, video, and more using the edit tab.  Don’t forget to s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1889280" y="115920"/>
            <a:ext cx="5597280" cy="901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wikispace-of-the-week.png"/>
          <p:cNvPicPr/>
          <p:nvPr/>
        </p:nvPicPr>
        <p:blipFill>
          <a:blip r:embed="rId2"/>
          <a:stretch/>
        </p:blipFill>
        <p:spPr>
          <a:xfrm>
            <a:off x="6629400" y="4876920"/>
            <a:ext cx="1371600" cy="1371600"/>
          </a:xfrm>
          <a:prstGeom prst="rect">
            <a:avLst/>
          </a:prstGeom>
          <a:ln cap="sq" w="390600">
            <a:solidFill>
              <a:srgbClr val="ff99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0:34:14Z</dcterms:created>
  <dc:creator>Kelly</dc:creator>
  <dc:description/>
  <dc:language>en-US</dc:language>
  <cp:lastModifiedBy>Board</cp:lastModifiedBy>
  <dcterms:modified xsi:type="dcterms:W3CDTF">2010-12-26T04:29:04Z</dcterms:modified>
  <cp:revision>24</cp:revision>
  <dc:subject/>
  <dc:title>Creating a Wikispace</dc:title>
</cp:coreProperties>
</file>